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35061-BCF9-4FD7-9128-A0A8BD736A0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C43DC-B91C-48A1-90D1-3F6461DEBF4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79601C-955A-4E5C-A4D2-B99CCD434179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287EF-4228-45B2-82FE-1BE582595F57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7BBC34-84D0-4FF9-9B28-8273EFDB80D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4746AF-A575-468E-A932-092C06127BEF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1D69D6-6E82-4502-A550-3528EC40379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0B347-EB87-4DC1-9E37-DC2075BEFC6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87DE4B-74DE-4122-8010-84BC1D3332F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2E593-BAE0-4F0D-99E9-9F09188A6CB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9C3E6-2CFF-45B7-B2B7-DA5963ABDE7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F9007-EB1B-425C-BAE0-A7247641748F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4E4696-E052-40ED-811B-42A9861990B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E3CE5-82DD-4C68-8937-F3C9FE3B5B1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4912B-C99F-449D-9C84-5675BD3C6F8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D3E4F3-FA59-49C0-94F5-A5239A000D6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BC6ED-91A3-4D1D-B4B7-83AE72B58F07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D6DA8F-A969-4671-88AD-CE710FCBB62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A1B76-A103-4D6F-A847-F1B9BA87AD9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01482C-6DF8-4151-9EFB-B7DA78763739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A2086-EA48-481F-9B20-A3FD8CB9D229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BD7F4-CBBB-4C97-A3B6-00B80C903B8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67070-586B-4F28-B4AD-5A92BBA0ED2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CFAB2-A9AC-4040-8E0B-422645BC90E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2475B-A0B5-4CC2-B74C-004607E2FD4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A163F-9B7E-405C-A7DB-A98A55C79BC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B13B76-00CE-43E5-97A7-E3CB3444290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C8025-DB5B-4F57-8B5E-C5BF149464C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00FDC-11DC-41FC-8216-CA8D843AA18F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244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  <a:ea typeface="Droid Sans Fallb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FE085A-FF58-4082-BF40-775FB2CDEA3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5DECC-7D70-45C7-8AF1-2A56E0F53C0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389AC9-6E51-4A23-997A-6D2C4ADD9AE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9B34D-7846-48A3-85F4-32584D17CB1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42EBF-3182-472C-83B2-2DED9A2B8F6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409E3-0987-4E7C-AE9D-C796B48EECDF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7C51-5C96-4C24-BA47-0BC47DCEEE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85CD-DDC4-4967-BCD6-5508FF21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4409-5DE8-46E3-9F76-0A2AE898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348E-DE2C-42A2-93C5-C08F16937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2243-EC96-4FC9-80A7-3E0358F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6B91-ADC4-43BD-B334-D6133EDD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8450-40F6-4388-B24E-B7755FD2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3255-20B8-46DB-B0DF-5F761002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E062-C4C1-4659-A18F-0436EC06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073D-9BEC-4C6D-8769-4F08069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45AD-9189-420F-B764-AA98BB22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F360-D576-40EB-B9C0-37B871A7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FCDC3-F49B-4CF1-98C7-5433C5EEE7FE}" type="slidenum">
              <a:rPr b="0" lang="et-E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and schemaless databases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ome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some 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Value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, Property, Valuetype: URI-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Value: URI or literal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Many representation synta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/X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-trip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urt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xample in Turtle synt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rdf: &lt;http://www.w3.org/1999/02/22-rdf-syntax-ns#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dc: &lt;http://purl.org/dc/elements/1.1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ex: &lt;http://example.org/stuff/1.0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&lt;http://www.w3.org/TR/rdf-syntax-grammar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c:title "RDF/XML Syntax Specification (Revised)" 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editor [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fullname "Dave Beckett"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homePage &lt;http://purl.org/net/dajobe/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]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How to add metadata to a r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 timestamp, changer, row id, status etc etc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orrible answer: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ugly head of re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salary      20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ant to add timestamp and entering person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reification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57200" y="160020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r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      salary               2000     +   timestamp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subject            personid: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predicate        sal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object             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timestamp      2009-10-20 13:4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modifier          personid:345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rom the relational db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row, N cols in the relational d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rst, get N rows of four cols in R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cond, get (N*3)+X rows of four cols after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12*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container blu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 vocabul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ing of three predefined types (together with some associated predefined propertie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resource that contains things. The contained thing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members of a container may be resources (including blank nodes) or literals. RDF defines three types of contain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B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S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have no real semantics in RD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 semantics would make calc ha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are fake, pointless tempt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3459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cal id-s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ifferent object id-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URI-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se are f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“blank nodes”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ir semantics/use in the RDF spec is broken: creates unnecessary probl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relational databases have been a standard way to store and query data for deca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lementations are complex and polish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QL is everyw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786200" y="3857760"/>
            <a:ext cx="344808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dicate, subject, valuetype URI-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keep a separate table for unique str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numeric string id-s in pred,subject,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oring value? Can be int, float, string, URI,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veral ways, all b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st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several columns for different (main) 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parql query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type: &lt;http://dbpedia.org/class/yago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prop: &lt;http://dbpedia.org/property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LECT ?country_name ?popul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ERE {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?country   a   type:LandlockedCountries 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label   ?country_name ;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p:populationEstimate  ?population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L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?population &gt; 15000000 &amp;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ngMatches(lang(?country_name), "EN"))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} ORDER BY DESC(?population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Rule languages for class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e language:  RDFa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x:Van    rdfs:subClassOf    ex:MotorVehicl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omplex language: 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ameIndividual:   f:male   g:mascu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unctionalDataProperty:    f:hasW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nverseFunctionalDataProperty:    f:hasW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ReligiousMarriage DisjointWith: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Civil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Marriage Equivalent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ReligiousMarriage OR f:CivilMarri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Universal rule langu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1600200"/>
            <a:ext cx="82296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ased on first order logic: sugar and extensions add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ule engine has own language/featu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ttempts to create standard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K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SO Common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WR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ule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SO Common Log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457200" y="1600200"/>
            <a:ext cx="8228160" cy="4524480"/>
            <a:chOff x="457200" y="1600200"/>
            <a:chExt cx="8228160" cy="4524480"/>
          </a:xfrm>
        </p:grpSpPr>
        <p:sp>
          <p:nvSpPr>
            <p:cNvPr id="103" name="Freeform 3"/>
            <p:cNvSpPr/>
            <p:nvPr/>
          </p:nvSpPr>
          <p:spPr>
            <a:xfrm>
              <a:off x="457200" y="1600200"/>
              <a:ext cx="8228160" cy="4524480"/>
            </a:xfrm>
            <a:custGeom>
              <a:avLst/>
              <a:gdLst>
                <a:gd name="textAreaLeft" fmla="*/ 0 w 8228160"/>
                <a:gd name="textAreaRight" fmla="*/ 8228520 w 8228160"/>
                <a:gd name="textAreaTop" fmla="*/ 0 h 4524480"/>
                <a:gd name="textAreaBottom" fmla="*/ 4524840 h 4524480"/>
              </a:gdLst>
              <a:ahLst/>
              <a:rect l="textAreaLeft" t="textAreaTop" r="textAreaRight" b="textAreaBottom"/>
              <a:pathLst>
                <a:path w="5441" h="2550">
                  <a:moveTo>
                    <a:pt x="252" y="273"/>
                  </a:moveTo>
                  <a:cubicBezTo>
                    <a:pt x="53" y="395"/>
                    <a:pt x="56" y="616"/>
                    <a:pt x="28" y="834"/>
                  </a:cubicBezTo>
                  <a:cubicBezTo>
                    <a:pt x="0" y="1052"/>
                    <a:pt x="13" y="1347"/>
                    <a:pt x="81" y="1581"/>
                  </a:cubicBezTo>
                  <a:cubicBezTo>
                    <a:pt x="149" y="1815"/>
                    <a:pt x="95" y="2089"/>
                    <a:pt x="433" y="2236"/>
                  </a:cubicBezTo>
                  <a:cubicBezTo>
                    <a:pt x="771" y="2383"/>
                    <a:pt x="1564" y="2433"/>
                    <a:pt x="2108" y="2466"/>
                  </a:cubicBezTo>
                  <a:cubicBezTo>
                    <a:pt x="2652" y="2499"/>
                    <a:pt x="3189" y="2448"/>
                    <a:pt x="3697" y="2434"/>
                  </a:cubicBezTo>
                  <a:cubicBezTo>
                    <a:pt x="4205" y="2420"/>
                    <a:pt x="4875" y="2550"/>
                    <a:pt x="5158" y="2381"/>
                  </a:cubicBezTo>
                  <a:cubicBezTo>
                    <a:pt x="5441" y="2212"/>
                    <a:pt x="5398" y="1755"/>
                    <a:pt x="5393" y="1421"/>
                  </a:cubicBezTo>
                  <a:cubicBezTo>
                    <a:pt x="5388" y="1087"/>
                    <a:pt x="5261" y="588"/>
                    <a:pt x="5126" y="375"/>
                  </a:cubicBezTo>
                  <a:cubicBezTo>
                    <a:pt x="4991" y="162"/>
                    <a:pt x="4934" y="206"/>
                    <a:pt x="4582" y="145"/>
                  </a:cubicBezTo>
                  <a:cubicBezTo>
                    <a:pt x="4230" y="84"/>
                    <a:pt x="3574" y="14"/>
                    <a:pt x="3014" y="7"/>
                  </a:cubicBezTo>
                  <a:cubicBezTo>
                    <a:pt x="2454" y="0"/>
                    <a:pt x="1682" y="59"/>
                    <a:pt x="1222" y="103"/>
                  </a:cubicBezTo>
                  <a:cubicBezTo>
                    <a:pt x="762" y="147"/>
                    <a:pt x="451" y="151"/>
                    <a:pt x="252" y="273"/>
                  </a:cubicBezTo>
                  <a:close/>
                </a:path>
              </a:pathLst>
            </a:custGeom>
            <a:solidFill>
              <a:srgbClr val="bbc9dd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4"/>
            <p:cNvSpPr/>
            <p:nvPr/>
          </p:nvSpPr>
          <p:spPr>
            <a:xfrm>
              <a:off x="790560" y="1909800"/>
              <a:ext cx="6372360" cy="3801960"/>
            </a:xfrm>
            <a:prstGeom prst="ellipse">
              <a:avLst/>
            </a:prstGeom>
            <a:solidFill>
              <a:srgbClr val="7b74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6972480" y="2228760"/>
              <a:ext cx="14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ver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6"/>
            <p:cNvSpPr/>
            <p:nvPr/>
          </p:nvSpPr>
          <p:spPr>
            <a:xfrm>
              <a:off x="903240" y="2554200"/>
              <a:ext cx="6113520" cy="2987640"/>
            </a:xfrm>
            <a:prstGeom prst="ellipse">
              <a:avLst/>
            </a:prstGeom>
            <a:solidFill>
              <a:srgbClr val="7b74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1022400" y="3444840"/>
              <a:ext cx="14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Log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8"/>
            <p:cNvSpPr/>
            <p:nvPr/>
          </p:nvSpPr>
          <p:spPr>
            <a:xfrm>
              <a:off x="4176720" y="3757680"/>
              <a:ext cx="3954600" cy="1947960"/>
            </a:xfrm>
            <a:prstGeom prst="ellipse">
              <a:avLst/>
            </a:prstGeom>
            <a:solidFill>
              <a:srgbClr val="007e1d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6756480" y="4708440"/>
              <a:ext cx="119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 (zed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2300400" y="3186000"/>
              <a:ext cx="3889440" cy="224964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2455920" y="2935440"/>
              <a:ext cx="4160880" cy="171900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2730600" y="3463920"/>
              <a:ext cx="88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WL/RD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3664080" y="3197160"/>
              <a:ext cx="2678040" cy="1189080"/>
            </a:xfrm>
            <a:prstGeom prst="ellipse">
              <a:avLst/>
            </a:prstGeom>
            <a:solidFill>
              <a:srgbClr val="fb4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3990960" y="3444840"/>
              <a:ext cx="208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 Logic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3394080" y="4562640"/>
              <a:ext cx="109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lo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011400" y="2023920"/>
              <a:ext cx="25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ptual Graph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everal syntaxes, common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(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)(Boy(x) 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(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)(Girl(y) &amp; Kissed(x,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[@every *x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[If: (Boy ?x)</a:t>
            </a:r>
            <a:r>
              <a:rPr b="0" lang="et-EE" sz="24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[Then: [*y] (Girl ?y) (Kissed ?x ?y) ]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6524640" y="464328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chieving semantic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ystem A: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married Jack Ji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ystem B: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married (roleset:(husband Jack)(wife Jill))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understand”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vide equivalence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forall (x 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implies  (married x 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married (roleset:(husband x) (wife y))) ) 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4664160"/>
            <a:ext cx="2052720" cy="21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RIF: rule interchange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1600200"/>
            <a:ext cx="822960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gain, many syntaxes, common seman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ocumen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efix(cpt &lt;http://example.com/concepts#&gt;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efix(ppl &lt;http://example.com/people#&gt;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efix(bks &lt;http://example.com/books#&gt;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Group (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Forall ?Buyer ?Item ?Selle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pt:buy(?Buyer ?Item ?Seller) :-  cpt:sell(?Seller ?Item ?Buyer)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pt:sell(ppl:John bks:LeRif ppl:Mary)  ) ) 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429680" y="5452920"/>
            <a:ext cx="146808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Back to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Most people are not happy with current RDF,  OWL or rule langua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 databases are slow, when compared to relational bases as they are commonly 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 systems are very sl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429160" y="2214720"/>
            <a:ext cx="285768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Alternatives: existing and s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etwork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bject-relational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ain memory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osql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ocument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XM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RDF, Sparql, semantic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Google Bigtable and MapRedu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11720" y="1736640"/>
            <a:ext cx="39052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peed ho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DF is probably better suited for memory db-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Locality is less critical in memory than dis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N cols in a row have better locality than N RDF rows of 4 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igger hit for disc based systems than memor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ule systems are too slow on a disc db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need pure, rule-optimised memory d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rop triples for N-tu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ification is b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t metadata directly into the data r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 ca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LIKO project: technology fo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xtual information and user profile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crete subproject: intelligent tourist recommendations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+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roper RDF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 id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name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ncoded in a large numer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typ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uri reference 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etadata on the same 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w id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start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end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stamp of last mod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 id (uri reference id  of a web page, database, 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loating suggestions for RDF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82296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ore “ordinary” logic/databas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-tu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conta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striction th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ubject and pred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ust be URI-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“blank nod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ify valu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dd n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 http://www.slideshare.net/PatHayes/rdf-red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38080" y="990720"/>
            <a:ext cx="78487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544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96760"/>
                <a:tab algn="l" pos="1811160"/>
                <a:tab algn="l" pos="2725560"/>
                <a:tab algn="l" pos="3639960"/>
                <a:tab algn="l" pos="4554360"/>
                <a:tab algn="l" pos="5468760"/>
                <a:tab algn="l" pos="6383160"/>
                <a:tab algn="l" pos="7297560"/>
                <a:tab algn="l" pos="8211960"/>
                <a:tab algn="l" pos="9126360"/>
                <a:tab algn="l" pos="100407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544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96760"/>
                <a:tab algn="l" pos="1811160"/>
                <a:tab algn="l" pos="2725560"/>
                <a:tab algn="l" pos="3639960"/>
                <a:tab algn="l" pos="4554360"/>
                <a:tab algn="l" pos="5468760"/>
                <a:tab algn="l" pos="6383160"/>
                <a:tab algn="l" pos="7297560"/>
                <a:tab algn="l" pos="8211960"/>
                <a:tab algn="l" pos="9126360"/>
                <a:tab algn="l" pos="100407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-less: obvious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ow with N cols is represented as N rows of three columns, called sometimes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ow/Object id        Column name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ubject                     Predicate                 Ob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milar to key-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be combined 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:Property          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Schema-less is often inevi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 data from numerous sources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ggregate in our own databa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 no control over foreign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understanding of foreign data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data sources 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ife is h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ople need schemaless databases. Ye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are s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need „schema“ or rules or something to add more „soft“ structure to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andards/theory is evolving/changing f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obody is happy with what we currently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The only standard (which nobody lov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S): resource description frame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veloped and pushed by W3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rnerstone of the semantic web pro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rge number of systems 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lot of to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257960" y="5000760"/>
            <a:ext cx="150516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triple not really a tri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 Value 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ith valuetype normally being eith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of xml schema data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id: U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0:49:55Z</dcterms:created>
  <dc:creator>tanel</dc:creator>
  <dc:description/>
  <dc:language>en-US</dc:language>
  <cp:lastModifiedBy>Tanel</cp:lastModifiedBy>
  <dcterms:modified xsi:type="dcterms:W3CDTF">2014-02-19T13:30:35Z</dcterms:modified>
  <cp:revision>62</cp:revision>
  <dc:subject/>
  <dc:title>RDF and schemaless databases: some notes</dc:title>
</cp:coreProperties>
</file>